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C84-53FA-494D-97E2-4BAB69EA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AA2-69AF-48E0-9A8D-F3ABD24C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9C5-A908-4642-9E5B-0903956B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50C-1F01-435E-A736-106BBF38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1EA8-46B4-4677-BE83-EA77BD6C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30A7-0B6C-4F07-9BAE-75B512A2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7707-E55E-405F-8250-DD1CEA00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894A-E892-4449-A465-05AB2E4A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DA1F-C4D9-4232-9FCB-60D714D8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B9E4-2802-48F4-877D-E4D8585D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B2A4-3821-484D-8AB8-C160B837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55CF-F1AD-421E-BC62-8B3259C6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1624-02EB-4057-9756-0156FA9D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2655-D657-4196-9BA4-65266118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63D1-4C14-4447-B139-EA313B1E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4C08-4506-46CB-A305-322F3455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618A-31D7-461C-AEC7-FB2FC78E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F9B-120F-430B-A166-4A83DC04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323-0634-4F0A-94C5-1B4EAA62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FD9-F27B-4B20-9EC4-CACF350F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6074-7B3F-424C-909E-DABDBB35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133-618C-43FE-A7E9-F0D29E7B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D5D-5BD2-4B0E-BA12-78B04EC0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ECF-1F8B-4981-9EFF-4799B88F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0F0A-36EF-47A7-8313-95C414C122A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029B-9ECD-477B-9119-C648E8B3AFA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German Empire:</a:t>
            </a:r>
            <a:br>
              <a:rPr sz="5700"/>
            </a:b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Second Reich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 Age of Bismarc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hapter IX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943600" y="4673520"/>
            <a:ext cx="29052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’d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amples of program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orker’s sickness insurance (1883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orker’s accident insurance (1884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gulated hours and conditions of work for women and children (1887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ld Age Pensions (1890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bility insurance (1890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ave trade unions more freedom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smarck’s Foreign Polic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occupied with maintaining the post Franco-Prussian War balance of pow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 do so, h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werful army (400,000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d alliances to isolate Franc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ree Emperor’s League or 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Dreikaiserbund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(1873) Germ/A.H./Ru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ual Alliance (1879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riple Alliance (1882) Ger/A.H./Ita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insurance Treaty (1887) Ger/Ru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ring this time Great Britain was not a concer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nlikely to ally with France; policy of “splendid isolatio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굴림"/>
              </a:rPr>
              <a:t>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61312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3152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End of the Er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death of William I (1888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lliam II new Emper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sented Bismarck’s powe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d rel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ismarck forced to resig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lliam II’s Reig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capable lead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nable to maintain allianc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rmany’s aggressive foreign policies led to an alliance of Great Britain and Franc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3672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35464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굴림"/>
              </a:rPr>
              <a:t>The Congress of Berlin 1878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굴림"/>
              </a:rPr>
              <a:t>Insurrection in Balkans (1875) against Ottoman rul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굴림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굴림"/>
              </a:rPr>
              <a:t>Sick man of Europe” – Ottoma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굴림"/>
              </a:rPr>
              <a:t>War between Russia and Ottoman Empi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굴림"/>
              </a:rPr>
              <a:t>Bismarck seeks a pacific solutio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굴림"/>
              </a:rPr>
              <a:t>See maps on pp. 163 &amp; 139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Second Reich (1871-1918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merged with the creation of German Empire (January, 1871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nification of Germany a Prussian achievemen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smarck remains Chancellor (P.M.) for next 20 year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William I, German Emperor, 1871 and Prince Otto von Bismarck (painting by A. von Werner)"/>
          <p:cNvPicPr/>
          <p:nvPr/>
        </p:nvPicPr>
        <p:blipFill>
          <a:blip r:embed="rId1"/>
          <a:stretch/>
        </p:blipFill>
        <p:spPr>
          <a:xfrm>
            <a:off x="4952880" y="4405320"/>
            <a:ext cx="37245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굴림"/>
              </a:rPr>
              <a:t>Terms of agreement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굴림"/>
              </a:rPr>
              <a:t>Independence of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굴림"/>
              </a:rPr>
              <a:t>Roman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굴림"/>
              </a:rPr>
              <a:t>Serb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굴림"/>
              </a:rPr>
              <a:t>Montenegr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굴림"/>
              </a:rPr>
              <a:t>Bulgaria (problems later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굴림"/>
              </a:rPr>
              <a:t>Russia back on Black Sea (Batum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굴림"/>
              </a:rPr>
              <a:t>Bosnia-Herzegovina to Austria-Hungary (in part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굴림"/>
              </a:rPr>
              <a:t>G.B. gets Cyprus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굴림"/>
              </a:rPr>
              <a:t>Ended Three Emperors’ Leagu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5181840" cy="4781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562720" y="1905120"/>
            <a:ext cx="33526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굴림"/>
              </a:rPr>
              <a:t>Bismarck and Colonie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굴림"/>
              </a:rPr>
              <a:t>1884 Bismarck felt that the heir to the throne was too liberal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굴림"/>
              </a:rPr>
              <a:t>Wanted to create hostility towards Britai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굴림"/>
              </a:rPr>
              <a:t>Took lands mostly in Africa; broke up the Cape to Cairo aspirations of G.B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굴림"/>
              </a:rPr>
              <a:t>Generated anti-British feelings in German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굴림"/>
              </a:rPr>
              <a:t>Congress on African Affairs (1885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1980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mperial Constitution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vided for legislative assemblies dominated by Prussia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cracy never given a chanc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wer resided in the executive (the Chancellor was responsible to the Empero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276960" y="4267080"/>
            <a:ext cx="2206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sign of the German Governmen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rman Emperor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Bismarck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ederal Council – a.k.a. 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Bundersa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(Prussians appointed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ad veto power over subordinate Reichsta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Reichstag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(democratically elected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dgetary power (“power of the purse”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flict between Bismarck and the Reichstag over military budge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0120" y="1143000"/>
            <a:ext cx="1076040" cy="1076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0" y="19810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485280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smarck’s Domestic Polic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dustrializatio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rmany becomes the second largest manufacturing n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imination of trade barriers between stat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ndardization of measur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rade barriers against foreign competition (tariffs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overnment financed transportation infrastructu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’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ationalism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ultivation of patriotism and nationalism to unite German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ti-clericalism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Kulturkampf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(struggle for civilization) against international religion (1871-79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duced power of Catholic Church in educ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npopular; officially ended in 188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434016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’d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destruction of socialis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ssaulted members of Social Democratic Part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nned meetings and publication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cial Welfare Legislatio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undermine use their ideas taken from their platform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ut Germany ahead of France and Great Britain in terms of social welfare legisl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8896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8:36:11Z</dcterms:created>
  <dc:creator>PlouffeH</dc:creator>
  <dc:description/>
  <dc:language>en-US</dc:language>
  <cp:lastModifiedBy>video1</cp:lastModifiedBy>
  <dcterms:modified xsi:type="dcterms:W3CDTF">2005-10-25T19:51:44Z</dcterms:modified>
  <cp:revision>9</cp:revision>
  <dc:subject/>
  <dc:title>The German Empire</dc:title>
</cp:coreProperties>
</file>